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F66-EEE9-4A38-B0C3-DDB9AA4F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9EF-203E-495E-9C48-14EEF528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BB4-5CD3-474A-B48E-453F0EB5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64B-7B5D-4981-9C08-0CD9FD92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AEB8-CA7A-49D8-935E-48EAAABE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C7DF-DCE0-40E2-B73D-3D0FF169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6058-90C9-4A52-8C8D-51CADA8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4412-E3F7-400B-B9A0-E5C77386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A7E9-FC81-4BC3-AC2A-092B7029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4918-B248-4D3A-9619-3F3110E6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6161-684A-4233-B48B-0D57BD1E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A70-522D-4121-9A2D-053CC83B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E172-4BD9-412A-A69D-B8505B39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44D6-CBDC-494B-B9C1-BEA26225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BE15-DB04-44CC-9C15-9123FF81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B0D0-BCAA-4B77-8998-81E8E6D4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A757-8672-4C72-B66E-F3A58281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C13-2827-475B-9166-0279D8C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1CE-D932-4B87-A8BF-DB792D49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467-F320-4A7C-9424-959385FE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732-3D59-43F9-8E6D-A5D00BB2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826-91B3-451B-9FE1-8AB720D4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A12-982E-4C66-A380-602781F3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2FE-4166-4041-959D-8479707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7200-97BB-4FF0-AA93-7EEF580C529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4F67-CC0E-40BE-A16B-2FBC4C2409B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27f4c"/>
                </a:solidFill>
                <a:latin typeface="Arial"/>
              </a:rPr>
              <a:t>ČLOVĚK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atří k obratlovců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tože m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kostru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áte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2" descr="anatomické,anatomie,artritida,biologické,biologie,bolesti,Fotolia,kloub,kosterní,kosti,kostry,lékařské,lidé,lidské bytosti,medicína,modely,osteoporóza,páteř,páteře,radiografie,trojrozměrné,věda,zánět,zdraví,zdravotní péče"/>
          <p:cNvPicPr/>
          <p:nvPr/>
        </p:nvPicPr>
        <p:blipFill>
          <a:blip r:embed="rId1"/>
          <a:stretch/>
        </p:blipFill>
        <p:spPr>
          <a:xfrm>
            <a:off x="6300720" y="3860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2009880" cy="5715000"/>
          </a:xfrm>
          <a:prstGeom prst="rect">
            <a:avLst/>
          </a:prstGeom>
          <a:ln w="0">
            <a:noFill/>
          </a:ln>
        </p:spPr>
      </p:pic>
      <p:sp>
        <p:nvSpPr>
          <p:cNvPr id="156" name="Line 27"/>
          <p:cNvSpPr/>
          <p:nvPr/>
        </p:nvSpPr>
        <p:spPr>
          <a:xfrm flipH="1">
            <a:off x="5292360" y="2492280"/>
            <a:ext cx="358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659640" y="2421000"/>
            <a:ext cx="79200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2" descr=""/>
          <p:cNvPicPr/>
          <p:nvPr/>
        </p:nvPicPr>
        <p:blipFill>
          <a:blip r:embed="rId3"/>
          <a:stretch/>
        </p:blipFill>
        <p:spPr>
          <a:xfrm>
            <a:off x="4140360" y="2852640"/>
            <a:ext cx="19508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827f4c"/>
                </a:solidFill>
                <a:uFillTx/>
                <a:latin typeface="Arial"/>
              </a:rPr>
              <a:t>KOSTRA</a:t>
            </a:r>
            <a:r>
              <a:rPr b="0" lang="cs-CZ" sz="4400" spc="-1" strike="noStrike" u="sng">
                <a:solidFill>
                  <a:srgbClr val="827f4c"/>
                </a:solidFill>
                <a:uFillTx/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827f4c"/>
                </a:solidFill>
                <a:uFillTx/>
                <a:latin typeface="Arial"/>
              </a:rPr>
              <a:t>ČLOVĚKA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6516720" y="34290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 flipV="1">
            <a:off x="5003640" y="2060640"/>
            <a:ext cx="1656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2"/>
          <p:cNvGrpSpPr/>
          <p:nvPr/>
        </p:nvGrpSpPr>
        <p:grpSpPr>
          <a:xfrm>
            <a:off x="179280" y="1484280"/>
            <a:ext cx="9180720" cy="5090400"/>
            <a:chOff x="179280" y="1484280"/>
            <a:chExt cx="9180720" cy="5090400"/>
          </a:xfrm>
        </p:grpSpPr>
        <p:pic>
          <p:nvPicPr>
            <p:cNvPr id="163" name="Picture 14" descr="části těla,Halloween,kosti,kostry,oslavy,svátky,tančení,tanečníci,zvláštní příležitosti"/>
            <p:cNvPicPr/>
            <p:nvPr/>
          </p:nvPicPr>
          <p:blipFill>
            <a:blip r:embed="rId1"/>
            <a:stretch/>
          </p:blipFill>
          <p:spPr>
            <a:xfrm>
              <a:off x="2987640" y="1484280"/>
              <a:ext cx="417672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17"/>
            <p:cNvSpPr/>
            <p:nvPr/>
          </p:nvSpPr>
          <p:spPr>
            <a:xfrm>
              <a:off x="4859280" y="3573360"/>
              <a:ext cx="158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6516720" y="3429000"/>
              <a:ext cx="262728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PÁTEŘ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Umožňuje vzpřímenou chůzi, chrání mích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5148360" y="3860640"/>
              <a:ext cx="1295280" cy="122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V="1">
              <a:off x="5148360" y="5084640"/>
              <a:ext cx="1295280" cy="122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22"/>
            <p:cNvSpPr/>
            <p:nvPr/>
          </p:nvSpPr>
          <p:spPr>
            <a:xfrm>
              <a:off x="6516720" y="4797360"/>
              <a:ext cx="223200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DOLNÍCH KONČET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Umožňuje pohy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23"/>
            <p:cNvSpPr/>
            <p:nvPr/>
          </p:nvSpPr>
          <p:spPr>
            <a:xfrm>
              <a:off x="179280" y="3789360"/>
              <a:ext cx="25923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HORNÍCH KONČET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Umožňuje pohy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2843280" y="2708280"/>
              <a:ext cx="122400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2843280" y="3789360"/>
              <a:ext cx="15127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6659640" y="1700280"/>
              <a:ext cx="27003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HRUDNÍK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Chrání vnitřní orgány (srdce, plíc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30"/>
            <p:cNvSpPr/>
            <p:nvPr/>
          </p:nvSpPr>
          <p:spPr>
            <a:xfrm>
              <a:off x="755640" y="1628640"/>
              <a:ext cx="22320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Tahoma"/>
                </a:rPr>
                <a:t>KOSTRA HLAVY (LEBK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9999"/>
                  </a:solidFill>
                  <a:latin typeface="Tahoma"/>
                </a:rPr>
                <a:t>Chrání moze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31"/>
            <p:cNvSpPr/>
            <p:nvPr/>
          </p:nvSpPr>
          <p:spPr>
            <a:xfrm>
              <a:off x="2843280" y="184464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27f4c"/>
                </a:solidFill>
                <a:latin typeface="Arial"/>
              </a:rPr>
              <a:t>Dovedeš ukázat?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že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áne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opat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ehenní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ra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líční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st hrud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st paž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lní če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emenní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808360" cy="6165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"/>
          <p:cNvPicPr/>
          <p:nvPr/>
        </p:nvPicPr>
        <p:blipFill>
          <a:blip r:embed="rId2"/>
          <a:stretch/>
        </p:blipFill>
        <p:spPr>
          <a:xfrm>
            <a:off x="5943600" y="836640"/>
            <a:ext cx="320040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2748240" cy="6030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1258920" y="292428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3478320" cy="6075360"/>
          </a:xfrm>
          <a:prstGeom prst="rect">
            <a:avLst/>
          </a:prstGeom>
          <a:ln w="0">
            <a:noFill/>
          </a:ln>
        </p:spPr>
      </p:pic>
      <p:sp>
        <p:nvSpPr>
          <p:cNvPr id="182" name="Line 13"/>
          <p:cNvSpPr/>
          <p:nvPr/>
        </p:nvSpPr>
        <p:spPr>
          <a:xfrm>
            <a:off x="1042920" y="1125360"/>
            <a:ext cx="12254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1187280" y="3068280"/>
            <a:ext cx="10810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 flipH="1">
            <a:off x="6516360" y="105264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6"/>
          <p:cNvSpPr/>
          <p:nvPr/>
        </p:nvSpPr>
        <p:spPr>
          <a:xfrm flipH="1">
            <a:off x="2916000" y="4365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5076720" y="2205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 flipH="1">
            <a:off x="2842920" y="1268280"/>
            <a:ext cx="136836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1258920" y="1988640"/>
            <a:ext cx="1368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 flipH="1" flipV="1">
            <a:off x="3276720" y="2349360"/>
            <a:ext cx="7905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6"/>
          <p:cNvSpPr/>
          <p:nvPr/>
        </p:nvSpPr>
        <p:spPr>
          <a:xfrm flipH="1">
            <a:off x="2556000" y="836640"/>
            <a:ext cx="79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7"/>
          <p:cNvSpPr/>
          <p:nvPr/>
        </p:nvSpPr>
        <p:spPr>
          <a:xfrm>
            <a:off x="5508720" y="54936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3348000" y="404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LNÍ Č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572000" y="33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ST TEMEN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7667640" y="765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PA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211640" y="1052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LÍČNÍ 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780000" y="4221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TEHENNÍ 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4048200" y="2873520"/>
            <a:ext cx="9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ST PAŽ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25092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ÁN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79280" y="198900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ST HRU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78360" y="8571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ŽEB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3780000" y="198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RA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27f4c"/>
                </a:solidFill>
                <a:latin typeface="Arial"/>
              </a:rPr>
              <a:t>KOSTI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oporou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tvořeny živými buňkami, cévy do nich přivádějí kre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ínají se na ně sv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spojeny pevně nebo jednotlivými klou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spělý člověk má průměrně 208 k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27f4c"/>
                </a:solidFill>
                <a:latin typeface="Arial"/>
              </a:rPr>
              <a:t>FUNKCE KOSTÍ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6" name="AutoShape 4"/>
          <p:cNvSpPr/>
          <p:nvPr/>
        </p:nvSpPr>
        <p:spPr>
          <a:xfrm rot="10800000">
            <a:off x="324000" y="1700280"/>
            <a:ext cx="2449440" cy="2016000"/>
          </a:xfrm>
          <a:prstGeom prst="wedgeRoundRectCallout">
            <a:avLst>
              <a:gd name="adj1" fmla="val -85648"/>
              <a:gd name="adj2" fmla="val 73541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6588000" y="1628640"/>
            <a:ext cx="2160720" cy="2159280"/>
          </a:xfrm>
          <a:prstGeom prst="wedgeRoundRectCallout">
            <a:avLst>
              <a:gd name="adj1" fmla="val -91148"/>
              <a:gd name="adj2" fmla="val -68601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6300720" y="4869000"/>
            <a:ext cx="2303640" cy="1726920"/>
          </a:xfrm>
          <a:prstGeom prst="wedgeRoundRectCallout">
            <a:avLst>
              <a:gd name="adj1" fmla="val -94657"/>
              <a:gd name="adj2" fmla="val -261027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 rot="10800000">
            <a:off x="900000" y="4076640"/>
            <a:ext cx="2665440" cy="2448000"/>
          </a:xfrm>
          <a:prstGeom prst="wedgeRoundRectCallout">
            <a:avLst>
              <a:gd name="adj1" fmla="val -83893"/>
              <a:gd name="adj2" fmla="val 16406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OC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Kosti chrání vnitřní orgá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kosti lebky chrání mozek, žebra chrání srdce, plíce, žalude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 rot="10800000">
            <a:off x="3635280" y="3068280"/>
            <a:ext cx="2376720" cy="2087640"/>
          </a:xfrm>
          <a:prstGeom prst="wedgeRoundRectCallout">
            <a:avLst>
              <a:gd name="adj1" fmla="val -1504"/>
              <a:gd name="adj2" fmla="val 138361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39640" y="1844640"/>
            <a:ext cx="2087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OPORA TĚ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Kosti tělo podpírají, udržují orgány na správných míste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116000" y="41497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995640" y="3213000"/>
            <a:ext cx="1727280" cy="1584360"/>
          </a:xfrm>
          <a:prstGeom prst="rect">
            <a:avLst/>
          </a:prstGeom>
          <a:solidFill>
            <a:srgbClr val="7c7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TVORBA KR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 kostní dře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e tvoří bílé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červené krvin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krevní destič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6588000" y="5013360"/>
            <a:ext cx="18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POHY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Kosti spolu se svaly umožňují pohybovat se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588000" y="1700280"/>
            <a:ext cx="2089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UKLÁDÁNÍ MINERÁLNÍCH LÁ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 kostech je skladován fosfor a vápní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27f4c"/>
                </a:solidFill>
                <a:latin typeface="Arial"/>
              </a:rPr>
              <a:t>Co kostře škodí?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patné držení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louhé sezení u P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právné nošení obu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ošení těžkých vě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5" descr="akademici,chlapci,děti,fotografie,osobní počítače,osoby,počítače,práce s počítačem,technologie"/>
          <p:cNvPicPr/>
          <p:nvPr/>
        </p:nvPicPr>
        <p:blipFill>
          <a:blip r:embed="rId1"/>
          <a:stretch/>
        </p:blipFill>
        <p:spPr>
          <a:xfrm>
            <a:off x="4788000" y="119700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aktovky,muži,osoby,sporty,túra,turisté,turistika,volný čas,vycházkové hole"/>
          <p:cNvPicPr/>
          <p:nvPr/>
        </p:nvPicPr>
        <p:blipFill>
          <a:blip r:embed="rId2"/>
          <a:stretch/>
        </p:blipFill>
        <p:spPr>
          <a:xfrm>
            <a:off x="395280" y="3933720"/>
            <a:ext cx="1677960" cy="201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diskotéková obuv,doplňky,módy,oblečení,obuv,platformová obuv"/>
          <p:cNvPicPr/>
          <p:nvPr/>
        </p:nvPicPr>
        <p:blipFill>
          <a:blip r:embed="rId3"/>
          <a:stretch/>
        </p:blipFill>
        <p:spPr>
          <a:xfrm>
            <a:off x="7236000" y="342900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bedny,břemena,muži,nošení,osoby,povolání,přeprava,průmysl,stavební dělníci,těžký"/>
          <p:cNvPicPr/>
          <p:nvPr/>
        </p:nvPicPr>
        <p:blipFill>
          <a:blip r:embed="rId4"/>
          <a:stretch/>
        </p:blipFill>
        <p:spPr>
          <a:xfrm>
            <a:off x="6877080" y="4869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a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27f4c"/>
                </a:solidFill>
                <a:latin typeface="Arial"/>
              </a:rPr>
              <a:t>Co dělat pro správný vývoj kostí?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íst potraviny bohaté na vápní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vitamín 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jídlo,mořské produkty,ryby,talíře"/>
          <p:cNvPicPr/>
          <p:nvPr/>
        </p:nvPicPr>
        <p:blipFill>
          <a:blip r:embed="rId1"/>
          <a:stretch/>
        </p:blipFill>
        <p:spPr>
          <a:xfrm>
            <a:off x="539640" y="2781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dopisy,jogurty,lžíce,potraviny,symboly"/>
          <p:cNvPicPr/>
          <p:nvPr/>
        </p:nvPicPr>
        <p:blipFill>
          <a:blip r:embed="rId2"/>
          <a:stretch/>
        </p:blipFill>
        <p:spPr>
          <a:xfrm>
            <a:off x="3419640" y="249228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Zobrazit podrobnosti"/>
          <p:cNvPicPr/>
          <p:nvPr/>
        </p:nvPicPr>
        <p:blipFill>
          <a:blip r:embed="rId3"/>
          <a:stretch/>
        </p:blipFill>
        <p:spPr>
          <a:xfrm>
            <a:off x="3276720" y="429264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jídlo,láhve na mléko,mléčné výrobky,mléko,nápoje,skleničky"/>
          <p:cNvPicPr/>
          <p:nvPr/>
        </p:nvPicPr>
        <p:blipFill>
          <a:blip r:embed="rId4"/>
          <a:stretch/>
        </p:blipFill>
        <p:spPr>
          <a:xfrm>
            <a:off x="6300720" y="285264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38:56Z</dcterms:created>
  <dc:creator>dell</dc:creator>
  <dc:description/>
  <dc:language>en-US</dc:language>
  <cp:lastModifiedBy>nicola.matouskova@outlook.cz</cp:lastModifiedBy>
  <dcterms:modified xsi:type="dcterms:W3CDTF">2021-03-03T12:23:27Z</dcterms:modified>
  <cp:revision>7</cp:revision>
  <dc:subject/>
  <dc:title>Snímek 1</dc:title>
</cp:coreProperties>
</file>