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1117-BC76-4F95-BB96-24A9C689C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9B19-F981-4093-859B-DD068983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0E8B-6E5D-4CE9-A0AB-BDD5EA1D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E311-D524-4E8C-B762-6E946E7B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E9B7-453F-48F2-B8DF-34B9C645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1861-EED1-4042-BD1C-A7CC341A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3FAE-59D2-4D71-8651-386C3F63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8262-F3EB-40BF-B636-8DAC7B3D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1A21-F7D7-4299-ABFA-5D996B9F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5B8D-D024-40F3-8249-DDCBAF7B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91DE-5BC6-45E8-9020-2711D609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23F9-F027-447B-A5B3-847E7EC9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0A84-DA79-44E0-8B9C-ADB702C0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64C3-51B7-407C-B7F1-0DFAC8F1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4710-4FFB-46F2-BA0F-9D92FB74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82CB-86C6-4305-B9C0-AFB562465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A1D3-3B24-4056-B23B-C063D0C3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FBF4-140D-4B3E-8218-69E6D141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226A-CB11-45F9-B36D-35731CE1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5EC0-A1DD-4614-BE08-A86773A0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6D22-CB55-46BF-BC31-5A4A2E28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ECF2-A199-4F5D-8B4E-17C96379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5277-A24C-4A57-94C6-9CD9B70E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4966-2D99-4B42-90B0-DC64372A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2a4a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9945-0AB8-46EA-BC18-6B755D3EE945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2a4a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8357-8641-4C06-A1F7-4DBEDAA1427B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827f4c"/>
                </a:solidFill>
                <a:latin typeface="Arial"/>
              </a:rPr>
              <a:t>ČLOVĚK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atří k obratlovcům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otože má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ahoma"/>
              </a:rPr>
              <a:t>kostru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a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ahoma"/>
              </a:rPr>
              <a:t>páteř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12" descr="anatomické,anatomie,artritida,biologické,biologie,bolesti,Fotolia,kloub,kosterní,kosti,kostry,lékařské,lidé,lidské bytosti,medicína,modely,osteoporóza,páteř,páteře,radiografie,trojrozměrné,věda,zánět,zdraví,zdravotní péče"/>
          <p:cNvPicPr/>
          <p:nvPr/>
        </p:nvPicPr>
        <p:blipFill>
          <a:blip r:embed="rId1"/>
          <a:stretch/>
        </p:blipFill>
        <p:spPr>
          <a:xfrm>
            <a:off x="6300720" y="386064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6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2009880" cy="5715000"/>
          </a:xfrm>
          <a:prstGeom prst="rect">
            <a:avLst/>
          </a:prstGeom>
          <a:ln w="0">
            <a:noFill/>
          </a:ln>
        </p:spPr>
      </p:pic>
      <p:sp>
        <p:nvSpPr>
          <p:cNvPr id="156" name="Line 27"/>
          <p:cNvSpPr/>
          <p:nvPr/>
        </p:nvSpPr>
        <p:spPr>
          <a:xfrm flipH="1">
            <a:off x="5292360" y="2492280"/>
            <a:ext cx="3589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29"/>
          <p:cNvSpPr/>
          <p:nvPr/>
        </p:nvSpPr>
        <p:spPr>
          <a:xfrm>
            <a:off x="6659640" y="2421000"/>
            <a:ext cx="792000" cy="25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32" descr=""/>
          <p:cNvPicPr/>
          <p:nvPr/>
        </p:nvPicPr>
        <p:blipFill>
          <a:blip r:embed="rId3"/>
          <a:stretch/>
        </p:blipFill>
        <p:spPr>
          <a:xfrm>
            <a:off x="4140360" y="2852640"/>
            <a:ext cx="195084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827f4c"/>
                </a:solidFill>
                <a:uFillTx/>
                <a:latin typeface="Arial"/>
              </a:rPr>
              <a:t>KOSTRA</a:t>
            </a:r>
            <a:r>
              <a:rPr b="0" lang="cs-CZ" sz="4400" spc="-1" strike="noStrike" u="sng">
                <a:solidFill>
                  <a:srgbClr val="827f4c"/>
                </a:solidFill>
                <a:uFillTx/>
                <a:latin typeface="Arial"/>
              </a:rPr>
              <a:t> </a:t>
            </a:r>
            <a:r>
              <a:rPr b="1" lang="cs-CZ" sz="4400" spc="-1" strike="noStrike" u="sng">
                <a:solidFill>
                  <a:srgbClr val="827f4c"/>
                </a:solidFill>
                <a:uFillTx/>
                <a:latin typeface="Arial"/>
              </a:rPr>
              <a:t>ČLOVĚKA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6516720" y="342900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26"/>
          <p:cNvSpPr/>
          <p:nvPr/>
        </p:nvSpPr>
        <p:spPr>
          <a:xfrm flipV="1">
            <a:off x="5003640" y="2060640"/>
            <a:ext cx="165600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32"/>
          <p:cNvGrpSpPr/>
          <p:nvPr/>
        </p:nvGrpSpPr>
        <p:grpSpPr>
          <a:xfrm>
            <a:off x="179280" y="1484280"/>
            <a:ext cx="9180720" cy="5090400"/>
            <a:chOff x="179280" y="1484280"/>
            <a:chExt cx="9180720" cy="5090400"/>
          </a:xfrm>
        </p:grpSpPr>
        <p:pic>
          <p:nvPicPr>
            <p:cNvPr id="163" name="Picture 14" descr="části těla,Halloween,kosti,kostry,oslavy,svátky,tančení,tanečníci,zvláštní příležitosti"/>
            <p:cNvPicPr/>
            <p:nvPr/>
          </p:nvPicPr>
          <p:blipFill>
            <a:blip r:embed="rId1"/>
            <a:stretch/>
          </p:blipFill>
          <p:spPr>
            <a:xfrm>
              <a:off x="2987640" y="1484280"/>
              <a:ext cx="4176720" cy="50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Line 17"/>
            <p:cNvSpPr/>
            <p:nvPr/>
          </p:nvSpPr>
          <p:spPr>
            <a:xfrm>
              <a:off x="4859280" y="3573360"/>
              <a:ext cx="158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Text Box 19"/>
            <p:cNvSpPr/>
            <p:nvPr/>
          </p:nvSpPr>
          <p:spPr>
            <a:xfrm>
              <a:off x="6516720" y="3429000"/>
              <a:ext cx="262728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ffff"/>
                  </a:solidFill>
                  <a:latin typeface="Tahoma"/>
                </a:rPr>
                <a:t>KOSTRA PÁTEŘ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9999"/>
                  </a:solidFill>
                  <a:latin typeface="Tahoma"/>
                </a:rPr>
                <a:t>Umožňuje vzpřímenou chůzi, chrání míchu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20"/>
            <p:cNvSpPr/>
            <p:nvPr/>
          </p:nvSpPr>
          <p:spPr>
            <a:xfrm>
              <a:off x="5148360" y="3860640"/>
              <a:ext cx="1295280" cy="1224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 flipV="1">
              <a:off x="5148360" y="5084640"/>
              <a:ext cx="1295280" cy="1224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Text Box 22"/>
            <p:cNvSpPr/>
            <p:nvPr/>
          </p:nvSpPr>
          <p:spPr>
            <a:xfrm>
              <a:off x="6516720" y="4797360"/>
              <a:ext cx="2232000" cy="177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ffff"/>
                  </a:solidFill>
                  <a:latin typeface="Tahoma"/>
                </a:rPr>
                <a:t>KOSTRA DOLNÍCH KONČETI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9999"/>
                  </a:solidFill>
                  <a:latin typeface="Tahoma"/>
                </a:rPr>
                <a:t>Umožňuje pohy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Text Box 23"/>
            <p:cNvSpPr/>
            <p:nvPr/>
          </p:nvSpPr>
          <p:spPr>
            <a:xfrm>
              <a:off x="179280" y="3789360"/>
              <a:ext cx="259236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ffff"/>
                  </a:solidFill>
                  <a:latin typeface="Tahoma"/>
                </a:rPr>
                <a:t>KOSTRA HORNÍCH KONČETI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9999"/>
                  </a:solidFill>
                  <a:latin typeface="Tahoma"/>
                </a:rPr>
                <a:t>Umožňuje pohy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24"/>
            <p:cNvSpPr/>
            <p:nvPr/>
          </p:nvSpPr>
          <p:spPr>
            <a:xfrm flipH="1">
              <a:off x="2843280" y="2708280"/>
              <a:ext cx="1224000" cy="108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25"/>
            <p:cNvSpPr/>
            <p:nvPr/>
          </p:nvSpPr>
          <p:spPr>
            <a:xfrm>
              <a:off x="2843280" y="3789360"/>
              <a:ext cx="1512720" cy="2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Text Box 27"/>
            <p:cNvSpPr/>
            <p:nvPr/>
          </p:nvSpPr>
          <p:spPr>
            <a:xfrm>
              <a:off x="6659640" y="1700280"/>
              <a:ext cx="270036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ffff"/>
                  </a:solidFill>
                  <a:latin typeface="Tahoma"/>
                </a:rPr>
                <a:t>KOSTRA HRUDNÍKU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9999"/>
                  </a:solidFill>
                  <a:latin typeface="Tahoma"/>
                </a:rPr>
                <a:t>Chrání vnitřní orgány (srdce, plíce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Text Box 30"/>
            <p:cNvSpPr/>
            <p:nvPr/>
          </p:nvSpPr>
          <p:spPr>
            <a:xfrm>
              <a:off x="755640" y="1628640"/>
              <a:ext cx="223200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ffff"/>
                  </a:solidFill>
                  <a:latin typeface="Tahoma"/>
                </a:rPr>
                <a:t>KOSTRA HLAVY (LEBKA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9999"/>
                  </a:solidFill>
                  <a:latin typeface="Tahoma"/>
                </a:rPr>
                <a:t>Chrání moze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31"/>
            <p:cNvSpPr/>
            <p:nvPr/>
          </p:nvSpPr>
          <p:spPr>
            <a:xfrm>
              <a:off x="2843280" y="1844640"/>
              <a:ext cx="1224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27f4c"/>
                </a:solidFill>
                <a:latin typeface="Arial"/>
              </a:rPr>
              <a:t>Dovedeš ukázat?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žeb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áne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lopat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ehenní k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brat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líční k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ost hrud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ost paž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olní čel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emenní k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2808360" cy="6165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1" descr=""/>
          <p:cNvPicPr/>
          <p:nvPr/>
        </p:nvPicPr>
        <p:blipFill>
          <a:blip r:embed="rId2"/>
          <a:stretch/>
        </p:blipFill>
        <p:spPr>
          <a:xfrm>
            <a:off x="5943600" y="836640"/>
            <a:ext cx="3200400" cy="558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1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1187280" y="476280"/>
            <a:ext cx="2748240" cy="60307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0"/>
          <p:cNvSpPr/>
          <p:nvPr/>
        </p:nvSpPr>
        <p:spPr>
          <a:xfrm>
            <a:off x="1258920" y="292428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12" descr=""/>
          <p:cNvPicPr/>
          <p:nvPr/>
        </p:nvPicPr>
        <p:blipFill>
          <a:blip r:embed="rId2"/>
          <a:stretch/>
        </p:blipFill>
        <p:spPr>
          <a:xfrm>
            <a:off x="5219640" y="404640"/>
            <a:ext cx="3478320" cy="6075360"/>
          </a:xfrm>
          <a:prstGeom prst="rect">
            <a:avLst/>
          </a:prstGeom>
          <a:ln w="0">
            <a:noFill/>
          </a:ln>
        </p:spPr>
      </p:pic>
      <p:sp>
        <p:nvSpPr>
          <p:cNvPr id="182" name="Line 13"/>
          <p:cNvSpPr/>
          <p:nvPr/>
        </p:nvSpPr>
        <p:spPr>
          <a:xfrm>
            <a:off x="1042920" y="1125360"/>
            <a:ext cx="122544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14"/>
          <p:cNvSpPr/>
          <p:nvPr/>
        </p:nvSpPr>
        <p:spPr>
          <a:xfrm flipV="1">
            <a:off x="1187280" y="3068280"/>
            <a:ext cx="10810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15"/>
          <p:cNvSpPr/>
          <p:nvPr/>
        </p:nvSpPr>
        <p:spPr>
          <a:xfrm flipH="1">
            <a:off x="6516360" y="105264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16"/>
          <p:cNvSpPr/>
          <p:nvPr/>
        </p:nvSpPr>
        <p:spPr>
          <a:xfrm flipH="1">
            <a:off x="2916000" y="436572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21"/>
          <p:cNvSpPr/>
          <p:nvPr/>
        </p:nvSpPr>
        <p:spPr>
          <a:xfrm>
            <a:off x="5076720" y="2205000"/>
            <a:ext cx="1224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22"/>
          <p:cNvSpPr/>
          <p:nvPr/>
        </p:nvSpPr>
        <p:spPr>
          <a:xfrm flipH="1">
            <a:off x="2842920" y="1268280"/>
            <a:ext cx="136836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23"/>
          <p:cNvSpPr/>
          <p:nvPr/>
        </p:nvSpPr>
        <p:spPr>
          <a:xfrm flipV="1">
            <a:off x="1258920" y="1988640"/>
            <a:ext cx="136836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24"/>
          <p:cNvSpPr/>
          <p:nvPr/>
        </p:nvSpPr>
        <p:spPr>
          <a:xfrm flipH="1" flipV="1">
            <a:off x="3276720" y="2349360"/>
            <a:ext cx="79056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26"/>
          <p:cNvSpPr/>
          <p:nvPr/>
        </p:nvSpPr>
        <p:spPr>
          <a:xfrm flipH="1">
            <a:off x="2556000" y="836640"/>
            <a:ext cx="79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27"/>
          <p:cNvSpPr/>
          <p:nvPr/>
        </p:nvSpPr>
        <p:spPr>
          <a:xfrm>
            <a:off x="5508720" y="549360"/>
            <a:ext cx="1008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3348000" y="404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DOLNÍ ČE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4572000" y="333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ST TEMEN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7667640" y="76500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PAT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4211640" y="1052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KLÍČNÍ K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780000" y="422100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STEHENNÍ K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33"/>
          <p:cNvSpPr/>
          <p:nvPr/>
        </p:nvSpPr>
        <p:spPr>
          <a:xfrm>
            <a:off x="4048200" y="2873520"/>
            <a:ext cx="9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KOST PAŽ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34"/>
          <p:cNvSpPr/>
          <p:nvPr/>
        </p:nvSpPr>
        <p:spPr>
          <a:xfrm>
            <a:off x="250920" y="2924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ÁNE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35"/>
          <p:cNvSpPr/>
          <p:nvPr/>
        </p:nvSpPr>
        <p:spPr>
          <a:xfrm>
            <a:off x="179280" y="1989000"/>
            <a:ext cx="12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KOST HRU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6"/>
          <p:cNvSpPr/>
          <p:nvPr/>
        </p:nvSpPr>
        <p:spPr>
          <a:xfrm>
            <a:off x="378360" y="8571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ŽEB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37"/>
          <p:cNvSpPr/>
          <p:nvPr/>
        </p:nvSpPr>
        <p:spPr>
          <a:xfrm>
            <a:off x="3780000" y="198900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BRA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27f4c"/>
                </a:solidFill>
                <a:latin typeface="Arial"/>
              </a:rPr>
              <a:t>KOSTI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sou oporou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sou tvořeny živými buňkami, cévy do nich přivádějí kre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pínají se na ně sva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sou spojeny pevně nebo jednotlivými klou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ospělý člověk má průměrně 208 ko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27f4c"/>
                </a:solidFill>
                <a:latin typeface="Arial"/>
              </a:rPr>
              <a:t>FUNKCE KOSTÍ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06" name="AutoShape 4"/>
          <p:cNvSpPr/>
          <p:nvPr/>
        </p:nvSpPr>
        <p:spPr>
          <a:xfrm rot="10800000">
            <a:off x="324000" y="1700280"/>
            <a:ext cx="2449440" cy="2016000"/>
          </a:xfrm>
          <a:prstGeom prst="wedgeRoundRectCallout">
            <a:avLst>
              <a:gd name="adj1" fmla="val -85648"/>
              <a:gd name="adj2" fmla="val 73541"/>
              <a:gd name="adj3" fmla="val 16667"/>
            </a:avLst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6588000" y="1628640"/>
            <a:ext cx="2160720" cy="2159280"/>
          </a:xfrm>
          <a:prstGeom prst="wedgeRoundRectCallout">
            <a:avLst>
              <a:gd name="adj1" fmla="val -91148"/>
              <a:gd name="adj2" fmla="val -68601"/>
              <a:gd name="adj3" fmla="val 16667"/>
            </a:avLst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6300720" y="4869000"/>
            <a:ext cx="2303640" cy="1726920"/>
          </a:xfrm>
          <a:prstGeom prst="wedgeRoundRectCallout">
            <a:avLst>
              <a:gd name="adj1" fmla="val -94657"/>
              <a:gd name="adj2" fmla="val -261027"/>
              <a:gd name="adj3" fmla="val 16667"/>
            </a:avLst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7"/>
          <p:cNvSpPr/>
          <p:nvPr/>
        </p:nvSpPr>
        <p:spPr>
          <a:xfrm rot="10800000">
            <a:off x="900000" y="4076640"/>
            <a:ext cx="2665440" cy="2448000"/>
          </a:xfrm>
          <a:prstGeom prst="wedgeRoundRectCallout">
            <a:avLst>
              <a:gd name="adj1" fmla="val -83893"/>
              <a:gd name="adj2" fmla="val 164069"/>
              <a:gd name="adj3" fmla="val 16667"/>
            </a:avLst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Tahoma"/>
              </a:rPr>
              <a:t>OCHR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Kosti chrání vnitřní orgá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(kosti lebky chrání mozek, žebra chrání srdce, plíce, žalude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8"/>
          <p:cNvSpPr/>
          <p:nvPr/>
        </p:nvSpPr>
        <p:spPr>
          <a:xfrm rot="10800000">
            <a:off x="3635280" y="3068280"/>
            <a:ext cx="2376720" cy="2087640"/>
          </a:xfrm>
          <a:prstGeom prst="wedgeRoundRectCallout">
            <a:avLst>
              <a:gd name="adj1" fmla="val -1504"/>
              <a:gd name="adj2" fmla="val 138361"/>
              <a:gd name="adj3" fmla="val 16667"/>
            </a:avLst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39640" y="1844640"/>
            <a:ext cx="2087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Tahoma"/>
              </a:rPr>
              <a:t>OPORA TĚ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Kosti tělo podpírají, udržují orgány na správných míste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116000" y="414972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3995640" y="3213000"/>
            <a:ext cx="1727280" cy="1584360"/>
          </a:xfrm>
          <a:prstGeom prst="rect">
            <a:avLst/>
          </a:prstGeom>
          <a:solidFill>
            <a:srgbClr val="7c7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Tahoma"/>
              </a:rPr>
              <a:t>TVORBA KR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V kostní dřen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se tvoří bílé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červené krvinky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krevní destič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6588000" y="5013360"/>
            <a:ext cx="1800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Tahoma"/>
              </a:rPr>
              <a:t>POHY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Kosti spolu se svaly umožňují pohybovat se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6588000" y="1700280"/>
            <a:ext cx="2089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Tahoma"/>
              </a:rPr>
              <a:t>UKLÁDÁNÍ MINERÁLNÍCH LÁT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V kostech je skladován fosfor a vápní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27f4c"/>
                </a:solidFill>
                <a:latin typeface="Arial"/>
              </a:rPr>
              <a:t>Co kostře škodí?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Špatné držení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louhé sezení u P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33cccc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správné nošení obuv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33cccc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ošení těžkých vě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5" descr="akademici,chlapci,děti,fotografie,osobní počítače,osoby,počítače,práce s počítačem,technologie"/>
          <p:cNvPicPr/>
          <p:nvPr/>
        </p:nvPicPr>
        <p:blipFill>
          <a:blip r:embed="rId1"/>
          <a:stretch/>
        </p:blipFill>
        <p:spPr>
          <a:xfrm>
            <a:off x="4788000" y="119700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aktovky,muži,osoby,sporty,túra,turisté,turistika,volný čas,vycházkové hole"/>
          <p:cNvPicPr/>
          <p:nvPr/>
        </p:nvPicPr>
        <p:blipFill>
          <a:blip r:embed="rId2"/>
          <a:stretch/>
        </p:blipFill>
        <p:spPr>
          <a:xfrm>
            <a:off x="395280" y="3933720"/>
            <a:ext cx="1677960" cy="2016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diskotéková obuv,doplňky,módy,oblečení,obuv,platformová obuv"/>
          <p:cNvPicPr/>
          <p:nvPr/>
        </p:nvPicPr>
        <p:blipFill>
          <a:blip r:embed="rId3"/>
          <a:stretch/>
        </p:blipFill>
        <p:spPr>
          <a:xfrm>
            <a:off x="7236000" y="3429000"/>
            <a:ext cx="1223640" cy="1224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1" descr="bedny,břemena,muži,nošení,osoby,povolání,přeprava,průmysl,stavební dělníci,těžký"/>
          <p:cNvPicPr/>
          <p:nvPr/>
        </p:nvPicPr>
        <p:blipFill>
          <a:blip r:embed="rId4"/>
          <a:stretch/>
        </p:blipFill>
        <p:spPr>
          <a:xfrm>
            <a:off x="6877080" y="486900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a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27f4c"/>
                </a:solidFill>
                <a:latin typeface="Arial"/>
              </a:rPr>
              <a:t>Co dělat pro správný vývoj kostí?</a:t>
            </a:r>
            <a:endParaRPr b="0" lang="en-US" sz="40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íst potraviny bohaté na vápní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 vitamín 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5" descr="jídlo,mořské produkty,ryby,talíře"/>
          <p:cNvPicPr/>
          <p:nvPr/>
        </p:nvPicPr>
        <p:blipFill>
          <a:blip r:embed="rId1"/>
          <a:stretch/>
        </p:blipFill>
        <p:spPr>
          <a:xfrm>
            <a:off x="539640" y="278136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dopisy,jogurty,lžíce,potraviny,symboly"/>
          <p:cNvPicPr/>
          <p:nvPr/>
        </p:nvPicPr>
        <p:blipFill>
          <a:blip r:embed="rId2"/>
          <a:stretch/>
        </p:blipFill>
        <p:spPr>
          <a:xfrm>
            <a:off x="3419640" y="2492280"/>
            <a:ext cx="2016000" cy="2016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9" descr="Zobrazit podrobnosti"/>
          <p:cNvPicPr/>
          <p:nvPr/>
        </p:nvPicPr>
        <p:blipFill>
          <a:blip r:embed="rId3"/>
          <a:stretch/>
        </p:blipFill>
        <p:spPr>
          <a:xfrm>
            <a:off x="3276720" y="4292640"/>
            <a:ext cx="2233440" cy="2233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1" descr="jídlo,láhve na mléko,mléčné výrobky,mléko,nápoje,skleničky"/>
          <p:cNvPicPr/>
          <p:nvPr/>
        </p:nvPicPr>
        <p:blipFill>
          <a:blip r:embed="rId4"/>
          <a:stretch/>
        </p:blipFill>
        <p:spPr>
          <a:xfrm>
            <a:off x="6300720" y="2852640"/>
            <a:ext cx="194328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9:38:56Z</dcterms:created>
  <dc:creator>dell</dc:creator>
  <dc:description/>
  <dc:language>en-US</dc:language>
  <cp:lastModifiedBy>nicola.matouskova@outlook.cz</cp:lastModifiedBy>
  <dcterms:modified xsi:type="dcterms:W3CDTF">2021-03-03T12:23:27Z</dcterms:modified>
  <cp:revision>7</cp:revision>
  <dc:subject/>
  <dc:title>Snímek 1</dc:title>
</cp:coreProperties>
</file>