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A75-944C-4FB3-B207-D9060280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C53-C7F7-4C5F-A654-FAB99119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A78-A8B7-4854-9310-4D79F5CB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934-1CF5-4E6D-993E-2849BA05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538-B898-453B-8A49-EBBB5CE2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9FA-8F49-4172-B611-8EDD0D3E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E2DB-8E8C-400E-ABAD-12975B0A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D7B-C4D2-4DE1-84F1-9735AD65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EF1-E4EB-49D5-A1A3-B1FA4425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B18-BA50-4C93-B0CF-63C9E880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222-D525-4879-AD81-B4F9E51D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13E-EFCD-4307-A690-2822F556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111E-F2E1-496D-84FF-21569A706C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spring-3.html" TargetMode="External"/><Relationship Id="rId2" Type="http://schemas.openxmlformats.org/officeDocument/2006/relationships/hyperlink" Target="http://www.clker.com/clipart-186483.html" TargetMode="External"/><Relationship Id="rId3" Type="http://schemas.openxmlformats.org/officeDocument/2006/relationships/hyperlink" Target="http://www.clker.com/clipart-184320.html" TargetMode="External"/><Relationship Id="rId4" Type="http://schemas.openxmlformats.org/officeDocument/2006/relationships/hyperlink" Target="http://www.clker.com/clipart-eggs-2.html" TargetMode="External"/><Relationship Id="rId5" Type="http://schemas.openxmlformats.org/officeDocument/2006/relationships/hyperlink" Target="http://www.clker.com/clipart-easter.html" TargetMode="External"/><Relationship Id="rId6" Type="http://schemas.openxmlformats.org/officeDocument/2006/relationships/hyperlink" Target="http://www.clker.com/clipart-easter-rabbit.html" TargetMode="External"/><Relationship Id="rId7" Type="http://schemas.openxmlformats.org/officeDocument/2006/relationships/hyperlink" Target="http://www.clker.com/clipart-chicken-and-chicks.html" TargetMode="External"/><Relationship Id="rId8" Type="http://schemas.openxmlformats.org/officeDocument/2006/relationships/hyperlink" Target="http://www.clker.com/clipart-easter-chick.html" TargetMode="External"/><Relationship Id="rId9" Type="http://schemas.openxmlformats.org/officeDocument/2006/relationships/hyperlink" Target="http://www.clker.com/clipart-flower-frame.html" TargetMode="External"/><Relationship Id="rId10" Type="http://schemas.openxmlformats.org/officeDocument/2006/relationships/hyperlink" Target="http://www.clker.com/clipart-butterfly-and-flowers.html" TargetMode="External"/><Relationship Id="rId11" Type="http://schemas.openxmlformats.org/officeDocument/2006/relationships/hyperlink" Target="http://www.clker.com/clipart-15392.html" TargetMode="External"/><Relationship Id="rId12" Type="http://schemas.openxmlformats.org/officeDocument/2006/relationships/hyperlink" Target="http://www.clker.com/clipart-184316.html" TargetMode="External"/><Relationship Id="rId13" Type="http://schemas.openxmlformats.org/officeDocument/2006/relationships/hyperlink" Target="http://www.clker.com/clipart-purpletulips3.html" TargetMode="External"/><Relationship Id="rId14" Type="http://schemas.openxmlformats.org/officeDocument/2006/relationships/hyperlink" Target="http://www.clker.com/clipart-chick-1.html" TargetMode="External"/><Relationship Id="rId15" Type="http://schemas.openxmlformats.org/officeDocument/2006/relationships/hyperlink" Target="http://www.clker.com/clipart-easter-bunny-egg.html" TargetMode="External"/><Relationship Id="rId16" Type="http://schemas.openxmlformats.org/officeDocument/2006/relationships/hyperlink" Target="http://www.clker.com/clipart-easter-egg-blue.html" TargetMode="External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50935.html" TargetMode="External"/><Relationship Id="rId2" Type="http://schemas.openxmlformats.org/officeDocument/2006/relationships/hyperlink" Target="http://www.clker.com/clipart-13162.html" TargetMode="External"/><Relationship Id="rId3" Type="http://schemas.openxmlformats.org/officeDocument/2006/relationships/hyperlink" Target="http://www.clker.com/clipart-15876.html" TargetMode="External"/><Relationship Id="rId4" Type="http://schemas.openxmlformats.org/officeDocument/2006/relationships/hyperlink" Target="http://www.clker.com/clipart-pink-candy-1.html" TargetMode="External"/><Relationship Id="rId5" Type="http://schemas.openxmlformats.org/officeDocument/2006/relationships/hyperlink" Target="http://www.clker.com/clipart-4116.html" TargetMode="External"/><Relationship Id="rId6" Type="http://schemas.openxmlformats.org/officeDocument/2006/relationships/hyperlink" Target="http://www.clker.com/clipart-4110.html" TargetMode="External"/><Relationship Id="rId7" Type="http://schemas.openxmlformats.org/officeDocument/2006/relationships/hyperlink" Target="http://www.clker.com/clipart-frowing-red-head-girl.html" TargetMode="External"/><Relationship Id="rId8" Type="http://schemas.openxmlformats.org/officeDocument/2006/relationships/hyperlink" Target="http://commons.wikimedia.org/wiki/File:Easter-Eggs-1.jpg" TargetMode="External"/><Relationship Id="rId9" Type="http://schemas.openxmlformats.org/officeDocument/2006/relationships/hyperlink" Target="http://commons.wikimedia.org/wiki/File:Velikono&#269;n&#237;_ber&#225;nek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utterfly And Flowers Clip Art"/>
          <p:cNvPicPr/>
          <p:nvPr/>
        </p:nvPicPr>
        <p:blipFill>
          <a:blip r:embed="rId1"/>
          <a:stretch/>
        </p:blipFill>
        <p:spPr>
          <a:xfrm>
            <a:off x="6383160" y="69840"/>
            <a:ext cx="2514600" cy="2857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Butterfly Clip Art"/>
          <p:cNvPicPr/>
          <p:nvPr/>
        </p:nvPicPr>
        <p:blipFill>
          <a:blip r:embed="rId2"/>
          <a:stretch/>
        </p:blipFill>
        <p:spPr>
          <a:xfrm rot="979200">
            <a:off x="3402000" y="318960"/>
            <a:ext cx="2120760" cy="244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21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f7600"/>
                </a:solidFill>
                <a:latin typeface="Jokerman"/>
              </a:rPr>
              <a:t>Velikonoce u nás a v jiných zemí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Easter Eggs In Grass Clip Art"/>
          <p:cNvPicPr/>
          <p:nvPr/>
        </p:nvPicPr>
        <p:blipFill>
          <a:blip r:embed="rId3"/>
          <a:srcRect l="0" t="0" r="0" b="5248"/>
          <a:stretch/>
        </p:blipFill>
        <p:spPr>
          <a:xfrm>
            <a:off x="4218120" y="3933720"/>
            <a:ext cx="4679640" cy="190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Chick Clip Art"/>
          <p:cNvPicPr/>
          <p:nvPr/>
        </p:nvPicPr>
        <p:blipFill>
          <a:blip r:embed="rId4"/>
          <a:stretch/>
        </p:blipFill>
        <p:spPr>
          <a:xfrm>
            <a:off x="1549440" y="3805200"/>
            <a:ext cx="1440000" cy="2028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Embrace The World Clip Art"/>
          <p:cNvPicPr/>
          <p:nvPr/>
        </p:nvPicPr>
        <p:blipFill>
          <a:blip r:embed="rId5"/>
          <a:stretch/>
        </p:blipFill>
        <p:spPr>
          <a:xfrm>
            <a:off x="900000" y="468360"/>
            <a:ext cx="1758960" cy="1879560"/>
          </a:xfrm>
          <a:prstGeom prst="rect">
            <a:avLst/>
          </a:prstGeom>
          <a:ln w="0">
            <a:noFill/>
          </a:ln>
        </p:spPr>
      </p:pic>
      <p:sp>
        <p:nvSpPr>
          <p:cNvPr id="47" name="Obdélník 5"/>
          <p:cNvSpPr/>
          <p:nvPr/>
        </p:nvSpPr>
        <p:spPr>
          <a:xfrm>
            <a:off x="468360" y="5950080"/>
            <a:ext cx="8207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1c1c1c"/>
                </a:solidFill>
                <a:latin typeface="Arial Unicode MS"/>
                <a:ea typeface="Arial Unicode MS"/>
              </a:rPr>
              <a:t>Autorem materiálu a všech jeho částí, není-li uvedeno jinak, je PhDr. Věra Holotová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1c1c1c"/>
                </a:solidFill>
                <a:latin typeface="Arial Unicode MS"/>
                <a:ea typeface="Arial Unicode MS"/>
              </a:rPr>
              <a:t>Dostupné z Metodického portálu www.rvp.cz, ISSN: 1802-4785.</a:t>
            </a:r>
            <a:br>
              <a:rPr sz="1100"/>
            </a:br>
            <a:r>
              <a:rPr b="0" i="1" lang="cs-CZ" sz="1100" spc="-1" strike="noStrike">
                <a:solidFill>
                  <a:srgbClr val="1c1c1c"/>
                </a:solidFill>
                <a:latin typeface="Arial Unicode MS"/>
                <a:ea typeface="Arial Unicode MS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1600" y="188640"/>
            <a:ext cx="71247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likonoce v Anglii a Austrálii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2520" y="1836360"/>
            <a:ext cx="8362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likonoce jsou slaveny na celém svět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mnoha zemích jsou ve spojitosti s barevnými vajíč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ngli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děti ráno účast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ry, kdo najde nejvíce vajíč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 zahradě, které schov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jíček, když spa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aké v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ustráli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děti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ledají vajíčka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zahradá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appy Easter With Bird Clip Art"/>
          <p:cNvPicPr/>
          <p:nvPr/>
        </p:nvPicPr>
        <p:blipFill>
          <a:blip r:embed="rId1"/>
          <a:stretch/>
        </p:blipFill>
        <p:spPr>
          <a:xfrm>
            <a:off x="2446200" y="1123920"/>
            <a:ext cx="4467240" cy="81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Easter Bunny Egg Clip Art"/>
          <p:cNvPicPr/>
          <p:nvPr/>
        </p:nvPicPr>
        <p:blipFill>
          <a:blip r:embed="rId2"/>
          <a:stretch/>
        </p:blipFill>
        <p:spPr>
          <a:xfrm>
            <a:off x="6300720" y="2781360"/>
            <a:ext cx="2158920" cy="2863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British Flag Clip Art"/>
          <p:cNvPicPr/>
          <p:nvPr/>
        </p:nvPicPr>
        <p:blipFill>
          <a:blip r:embed="rId3"/>
          <a:stretch/>
        </p:blipFill>
        <p:spPr>
          <a:xfrm>
            <a:off x="395280" y="981000"/>
            <a:ext cx="1380960" cy="819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Australia 4 Clip Art"/>
          <p:cNvPicPr/>
          <p:nvPr/>
        </p:nvPicPr>
        <p:blipFill>
          <a:blip r:embed="rId4"/>
          <a:stretch/>
        </p:blipFill>
        <p:spPr>
          <a:xfrm>
            <a:off x="7294680" y="1027080"/>
            <a:ext cx="145404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likonoce ve Franc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55640" y="1412640"/>
            <a:ext cx="63579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 Zeleného čtvrtka do Bílé soboty přestanou bít zvony v koste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íká se, že odletěly do Říma, aby se vrátily s vajíčky a sladkost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Old Bell Clip Art"/>
          <p:cNvPicPr/>
          <p:nvPr/>
        </p:nvPicPr>
        <p:blipFill>
          <a:blip r:embed="rId1"/>
          <a:stretch/>
        </p:blipFill>
        <p:spPr>
          <a:xfrm>
            <a:off x="179280" y="801720"/>
            <a:ext cx="2592360" cy="2852640"/>
          </a:xfrm>
          <a:prstGeom prst="rect">
            <a:avLst/>
          </a:prstGeom>
          <a:ln w="0">
            <a:noFill/>
          </a:ln>
        </p:spPr>
      </p:pic>
      <p:sp>
        <p:nvSpPr>
          <p:cNvPr id="93" name="Zástupný symbol pro obsah 2"/>
          <p:cNvSpPr/>
          <p:nvPr/>
        </p:nvSpPr>
        <p:spPr>
          <a:xfrm>
            <a:off x="179280" y="3860640"/>
            <a:ext cx="511344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Děti jdou odpoledne do zahrad, kde vajíčka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a sladkosti hledaj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Candy Clip Art"/>
          <p:cNvPicPr/>
          <p:nvPr/>
        </p:nvPicPr>
        <p:blipFill>
          <a:blip r:embed="rId2"/>
          <a:stretch/>
        </p:blipFill>
        <p:spPr>
          <a:xfrm>
            <a:off x="3995640" y="3654360"/>
            <a:ext cx="2378160" cy="178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andy 2 Clip Art"/>
          <p:cNvPicPr/>
          <p:nvPr/>
        </p:nvPicPr>
        <p:blipFill>
          <a:blip r:embed="rId3"/>
          <a:stretch/>
        </p:blipFill>
        <p:spPr>
          <a:xfrm>
            <a:off x="6996240" y="3348000"/>
            <a:ext cx="2016000" cy="2336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Pink Candy Clip Art"/>
          <p:cNvPicPr/>
          <p:nvPr/>
        </p:nvPicPr>
        <p:blipFill>
          <a:blip r:embed="rId4"/>
          <a:stretch/>
        </p:blipFill>
        <p:spPr>
          <a:xfrm rot="2730000">
            <a:off x="5504040" y="4368240"/>
            <a:ext cx="156672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France Clip Art"/>
          <p:cNvPicPr/>
          <p:nvPr/>
        </p:nvPicPr>
        <p:blipFill>
          <a:blip r:embed="rId5"/>
          <a:stretch/>
        </p:blipFill>
        <p:spPr>
          <a:xfrm>
            <a:off x="7289640" y="40644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likonoce v Německ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ředvečer Velikonoc děti vyráběj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laměná hníz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 těchto hnízd jim zajíček dá různě barevná vajíč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áno na Velikonoční pondělí jdou hnízda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 vajíčky hled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Easter Egg Blue Clip Art"/>
          <p:cNvPicPr/>
          <p:nvPr/>
        </p:nvPicPr>
        <p:blipFill>
          <a:blip r:embed="rId1"/>
          <a:stretch/>
        </p:blipFill>
        <p:spPr>
          <a:xfrm rot="1002600">
            <a:off x="219240" y="74160"/>
            <a:ext cx="1282680" cy="171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Germany Clip Art"/>
          <p:cNvPicPr/>
          <p:nvPr/>
        </p:nvPicPr>
        <p:blipFill>
          <a:blip r:embed="rId2"/>
          <a:stretch/>
        </p:blipFill>
        <p:spPr>
          <a:xfrm>
            <a:off x="7207200" y="447840"/>
            <a:ext cx="16099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lker.com/clipart-spring-3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lker.com/clipart-186483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clker.com/clipart-184320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clker.com/clipart-eggs-2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clker.com/clipart-easter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clker.com/clipart-easter-rabbit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clker.com/clipart-chicken-and-chicks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clker.com/clipart-easter-chick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clker.com/clipart-flower-frame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clker.com/clipart-butterfly-and-flowers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clker.com/clipart-15392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clker.com/clipart-184316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clker.com/clipart-purpletulips3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clker.com/clipart-chick-1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clker.com/clipart-easter-bunny-egg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clker.com/clipart-easter-egg-blue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lker.com/clipart-150935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lker.com/clipart-13162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clker.com/clipart-15876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clker.com/clipart-pink-candy-1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clker.com/clipart-4116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clker.com/clipart-4110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clker.com/clipart-frowing-red-head-girl.html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Lotus Head.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Creative Comm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na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WWW: 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commons.wikimedia.org/wiki/File:Easter-Eggs-1.jpg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ublic domain WWW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&lt;</a:t>
            </a: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commons.wikimedia.org/wiki/File:Velikono%C4%8Dn%C3%AD_ber%C3%A1nek.jpg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ublic domain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&lt;http://commons.wikimedia.org/wiki/File:Twelve-rod_pomlazka.jpg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http://www.clker.com/clipart-9041.html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http://www.clker.com/clipart-6262.html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http://www.clker.com/clipart-9112.html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http://www.clker.com/clipart-9167.html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cit. 2012-03-10]. Dostupný pod licencí Public domain na WWW: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http://www.clker.com/clipart-14866.html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Tulips Clip Art"/>
          <p:cNvPicPr/>
          <p:nvPr/>
        </p:nvPicPr>
        <p:blipFill>
          <a:blip r:embed="rId1"/>
          <a:stretch/>
        </p:blipFill>
        <p:spPr>
          <a:xfrm>
            <a:off x="7470720" y="3645000"/>
            <a:ext cx="1663920" cy="2462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Spring Clip Art"/>
          <p:cNvPicPr/>
          <p:nvPr/>
        </p:nvPicPr>
        <p:blipFill>
          <a:blip r:embed="rId2"/>
          <a:stretch/>
        </p:blipFill>
        <p:spPr>
          <a:xfrm>
            <a:off x="19080" y="-11160"/>
            <a:ext cx="271476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aro ‒ Velikono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300" spc="-1" strike="noStrike">
                <a:solidFill>
                  <a:srgbClr val="000000"/>
                </a:solidFill>
                <a:latin typeface="Calibri"/>
              </a:rPr>
              <a:t>Přišlo jaro, slunce svítí, v zahradách je plno kvítí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likonoce jsou nejkrásnější svátky j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likonoce jsou svátek z doby předkřesťansk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maj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 kalendáři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álé dat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aví se po jarní rovnode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21. března) a v neděli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 prvním úplň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Spring With Tulip Clip Art"/>
          <p:cNvPicPr/>
          <p:nvPr/>
        </p:nvPicPr>
        <p:blipFill>
          <a:blip r:embed="rId3"/>
          <a:stretch/>
        </p:blipFill>
        <p:spPr>
          <a:xfrm rot="1441800">
            <a:off x="6796080" y="315720"/>
            <a:ext cx="2233800" cy="10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mboly Velikonoc ‒ vajíčk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dním ze symbolů Velikonoc j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ajíčk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jíčko obsahuje zárodek života – j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ymbolem plodnos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dovou tradicí je malovat vej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jíčka můžeme zdobit voskem, barvami přírodními a umělý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rásné zdobené vajíčko se nazývá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rasl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Eggs Clip Art"/>
          <p:cNvPicPr/>
          <p:nvPr/>
        </p:nvPicPr>
        <p:blipFill>
          <a:blip r:embed="rId1"/>
          <a:stretch/>
        </p:blipFill>
        <p:spPr>
          <a:xfrm rot="20086800">
            <a:off x="6192720" y="2690640"/>
            <a:ext cx="2819520" cy="117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Easter Clip Art"/>
          <p:cNvPicPr/>
          <p:nvPr/>
        </p:nvPicPr>
        <p:blipFill>
          <a:blip r:embed="rId2"/>
          <a:stretch/>
        </p:blipFill>
        <p:spPr>
          <a:xfrm>
            <a:off x="236520" y="-14400"/>
            <a:ext cx="17622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ile:Twelve-rod pomlazka.jpg"/>
          <p:cNvPicPr/>
          <p:nvPr/>
        </p:nvPicPr>
        <p:blipFill>
          <a:blip r:embed="rId1"/>
          <a:srcRect l="4500" t="8095" r="3501" b="8741"/>
          <a:stretch/>
        </p:blipFill>
        <p:spPr>
          <a:xfrm rot="477000">
            <a:off x="245880" y="-387000"/>
            <a:ext cx="8897760" cy="5157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425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etená pomláz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92360" y="2528640"/>
            <a:ext cx="41752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Druhým symbolem Velikonoc je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pomlázk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ástupný symbol pro obsah 2"/>
          <p:cNvSpPr/>
          <p:nvPr/>
        </p:nvSpPr>
        <p:spPr>
          <a:xfrm>
            <a:off x="755640" y="4149720"/>
            <a:ext cx="8137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Pomlázku pleteme nejčastěji z osmi proutk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ástupný symbol pro obsah 2"/>
          <p:cNvSpPr/>
          <p:nvPr/>
        </p:nvSpPr>
        <p:spPr>
          <a:xfrm>
            <a:off x="1246320" y="3243240"/>
            <a:ext cx="5616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Pomlázka se plete z proutků vrby a bříz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ástupný symbol pro obsah 2"/>
          <p:cNvSpPr/>
          <p:nvPr/>
        </p:nvSpPr>
        <p:spPr>
          <a:xfrm>
            <a:off x="324000" y="5229360"/>
            <a:ext cx="8569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Chlapci chodí s pomlázkou vyplatit dívky a dostávají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koled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ástupný symbol pro obsah 2"/>
          <p:cNvSpPr/>
          <p:nvPr/>
        </p:nvSpPr>
        <p:spPr>
          <a:xfrm>
            <a:off x="324000" y="4635360"/>
            <a:ext cx="691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Proutky jso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znakem zdraví a mládí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rán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erán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znám už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ředkřesťanských tradicí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křesťanské víry Ježíš Kristus je beránek obětovaný za spásu svě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dnešní době známe především beránk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ečenéh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z piškotového těsta, na kterého se těší všechny dě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obchodech můžeme vidět také beránky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ovečky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okoládov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Lamb With Tulips Clip Art"/>
          <p:cNvPicPr/>
          <p:nvPr/>
        </p:nvPicPr>
        <p:blipFill>
          <a:blip r:embed="rId1"/>
          <a:stretch/>
        </p:blipFill>
        <p:spPr>
          <a:xfrm>
            <a:off x="609480" y="103320"/>
            <a:ext cx="1925640" cy="1592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File:Velikonoční beránek.jpg"/>
          <p:cNvPicPr/>
          <p:nvPr/>
        </p:nvPicPr>
        <p:blipFill>
          <a:blip r:embed="rId2"/>
          <a:stretch/>
        </p:blipFill>
        <p:spPr>
          <a:xfrm>
            <a:off x="5907240" y="103320"/>
            <a:ext cx="29923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aster Rabbit Clip Art"/>
          <p:cNvPicPr/>
          <p:nvPr/>
        </p:nvPicPr>
        <p:blipFill>
          <a:blip r:embed="rId1"/>
          <a:stretch/>
        </p:blipFill>
        <p:spPr>
          <a:xfrm>
            <a:off x="6732720" y="57240"/>
            <a:ext cx="2255760" cy="2685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epička a zajíč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likonoce jsou spojeny také s obrazem slepičky, která nám dává vajíč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 jaře se rodí mnoho kuřátek, které jsou také znakem Velikono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obchodech můžeme tak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idět čokoládové zajíč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 postavou zajíčka je spojeno mnoho velikonočních říkan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Chicken And Chicks Clip Art"/>
          <p:cNvPicPr/>
          <p:nvPr/>
        </p:nvPicPr>
        <p:blipFill>
          <a:blip r:embed="rId2"/>
          <a:stretch/>
        </p:blipFill>
        <p:spPr>
          <a:xfrm>
            <a:off x="123840" y="57240"/>
            <a:ext cx="2741760" cy="16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Easter Chick Clip Art"/>
          <p:cNvPicPr/>
          <p:nvPr/>
        </p:nvPicPr>
        <p:blipFill>
          <a:blip r:embed="rId3"/>
          <a:srcRect l="3812" t="0" r="5468" b="0"/>
          <a:stretch/>
        </p:blipFill>
        <p:spPr>
          <a:xfrm>
            <a:off x="6413400" y="3284640"/>
            <a:ext cx="2273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lower Frame Clip Art"/>
          <p:cNvPicPr/>
          <p:nvPr/>
        </p:nvPicPr>
        <p:blipFill>
          <a:blip r:embed="rId1"/>
          <a:stretch/>
        </p:blipFill>
        <p:spPr>
          <a:xfrm>
            <a:off x="655560" y="1052640"/>
            <a:ext cx="7920000" cy="4897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likonoční říkan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71640" y="1844280"/>
            <a:ext cx="4176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Hody, hody doprovod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dejte vejce malovaný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edáte-li malovan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dejte aspoň bíl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slepička vám snese jin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atý tý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3640" y="4005000"/>
            <a:ext cx="590364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elený čtvrtek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– v dřívějších dnech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e měla jíst jen zelená zeleni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elký pátek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– je vzpomínka n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křižování Kris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awk Calendar Clip Art"/>
          <p:cNvPicPr/>
          <p:nvPr/>
        </p:nvPicPr>
        <p:blipFill>
          <a:blip r:embed="rId1"/>
          <a:stretch/>
        </p:blipFill>
        <p:spPr>
          <a:xfrm>
            <a:off x="6300720" y="3645000"/>
            <a:ext cx="2416320" cy="230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Frowning Red Head Girl Clip Art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865160"/>
          </a:xfrm>
          <a:prstGeom prst="rect">
            <a:avLst/>
          </a:prstGeom>
          <a:ln w="0">
            <a:noFill/>
          </a:ln>
        </p:spPr>
      </p:pic>
      <p:sp>
        <p:nvSpPr>
          <p:cNvPr id="80" name="Zástupný symbol pro obsah 2"/>
          <p:cNvSpPr/>
          <p:nvPr/>
        </p:nvSpPr>
        <p:spPr>
          <a:xfrm>
            <a:off x="2556000" y="1268280"/>
            <a:ext cx="6408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Po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Modrém pondělí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Žlutém úterý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 přichází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Škaredá stře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Podle lidového obyčeje se na středu nesmíte mračit nebo se budete mračit všechny středy v ro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atý tý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287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ílá sobota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na Bílou sobot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 uklízelo, pekly se mazance a berán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elikonoční neděle (Boží hod velikonoční)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provádělo se svěcení pokrmů, nyní první svátek velikonoč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elikonoční ponděl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tento den je pomlázka,  velikonoční koledová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File:Easter-Eggs-1.jpg"/>
          <p:cNvPicPr/>
          <p:nvPr/>
        </p:nvPicPr>
        <p:blipFill>
          <a:blip r:embed="rId1"/>
          <a:stretch/>
        </p:blipFill>
        <p:spPr>
          <a:xfrm>
            <a:off x="5937120" y="49320"/>
            <a:ext cx="2908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21:16:05Z</dcterms:created>
  <dc:creator>Peta</dc:creator>
  <dc:description>Autorem materiálu a všech jeho částí, není-li uvedeno jinak, je PhDr. Věra Holotová.
Dostupné z Metodického portálu www.rvp.cz, ISSN: 1802-4785.
Provozuje Národní ústav pro vzdělávání, školské poradenské zařízení a zařízení pro další vzdělávání pedagogických pracovníků (NÚV).</dc:description>
  <dc:language>en-US</dc:language>
  <cp:lastModifiedBy>nicola.matouskova@outlook.cz</cp:lastModifiedBy>
  <dcterms:modified xsi:type="dcterms:W3CDTF">2021-03-26T12:09:11Z</dcterms:modified>
  <cp:revision>47</cp:revision>
  <dc:subject/>
  <dc:title>Velikonoce u nás a v jiných zemích</dc:title>
</cp:coreProperties>
</file>